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8DB0-9955-4D75-B555-3811DC7D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C4E-82F0-400F-BFE3-0B42B593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739-2F0B-4122-A5B1-41BCD65E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B91-F8A0-4734-A267-02D6FF0B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F09-8849-4E78-9817-86C81680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67BB-B821-4D6B-8A53-FBBAEA30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66C-E406-4F77-BA58-C5CDEE74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AA1-6E42-4C19-9A14-0FF3A8E4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F0A-C85F-4213-808A-0F26A66B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A8D-6CB7-4CE3-8879-6877F11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F79-4101-41E2-B7F7-0CC87378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7EB-7975-4933-A46C-46CAF3B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397D-50CB-48DA-A0CF-B47E718FF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60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cc3300"/>
                </a:solidFill>
                <a:latin typeface="Times New Roman"/>
              </a:rPr>
              <a:t>Жасушаның зерттелу тарихы, жасуша теориясы.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agesCAJMG4N1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539640" y="0"/>
            <a:ext cx="5256360" cy="2205000"/>
          </a:xfrm>
          <a:prstGeom prst="cloudCallout">
            <a:avLst>
              <a:gd name="adj1" fmla="val -51629"/>
              <a:gd name="adj2" fmla="val 831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Жасушаны  зерттейтін ғылым. 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</a:t>
            </a: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 –грекше: цитос-жасуша, логос- ғы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71640" y="2924280"/>
            <a:ext cx="2232000" cy="360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Times New Roman"/>
              </a:rPr>
              <a:t>Салал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0" y="3573360"/>
            <a:ext cx="223200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2771640" y="5489640"/>
            <a:ext cx="2592360" cy="136836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хим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4643280" y="1773360"/>
            <a:ext cx="2592720" cy="151272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гене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6227640" y="3068640"/>
            <a:ext cx="2916360" cy="1628640"/>
          </a:xfrm>
          <a:prstGeom prst="irregularSeal2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Цитоэк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0" y="5013360"/>
            <a:ext cx="2411280" cy="1268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Молекула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иологиян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бір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саласы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771640" y="3500280"/>
            <a:ext cx="3456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Клеткадағы нуклей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қышылын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 зертт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1870 ж Мишер лейко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ядросынан нукл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қышқылын тап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5867280" y="0"/>
            <a:ext cx="3276720" cy="17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Тұқым қуалаушыл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пен өзгергішті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заңдылықтарын жас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деңгейінде  зерттеу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мүмкіндік бер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5580000" y="4869000"/>
            <a:ext cx="3564000" cy="19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оршаған ортаның бұзылуы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байланысты жасуш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құрылымының өзгеруін соны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салдарынанаурудың  алдын а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333399"/>
                </a:solidFill>
                <a:latin typeface="Times New Roman"/>
              </a:rPr>
              <a:t>шаралары қарастырылады</a:t>
            </a:r>
            <a:r>
              <a:rPr b="0" lang="kk-KZ" sz="18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 flipV="1">
            <a:off x="3203640" y="270792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3203640" y="3068640"/>
            <a:ext cx="3168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 flipH="1">
            <a:off x="1835280" y="3357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124000" y="335772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908000" y="45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V="1">
            <a:off x="3924360" y="53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 flipH="1">
            <a:off x="8316720" y="4292640"/>
            <a:ext cx="431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6804000" y="177336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908000" y="0"/>
            <a:ext cx="5185080" cy="765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Жасушаның ашылу тарих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0" y="1341360"/>
            <a:ext cx="39956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09 ж Г.Гал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микроскопты құрастырды</a:t>
            </a:r>
            <a:r>
              <a:rPr b="0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680000" y="1268280"/>
            <a:ext cx="4464000" cy="1873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665 ж Р.Гук  микроско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ның майда ұяшық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ұратынын көр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 терминін қолдан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124000" y="3213000"/>
            <a:ext cx="4464000" cy="1441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А.Левенгук қан құрамындағ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эритроциттің бір жасуша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екенін анықт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324000" y="5373720"/>
            <a:ext cx="352872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1 ж Р.Броу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өсімдік жасушасын аш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076720" y="5300640"/>
            <a:ext cx="3745080" cy="13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1839 ж Я.Пурк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жасуша ішіндег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сұйықтық протоплазм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cc3300"/>
                </a:solidFill>
                <a:latin typeface="Arial"/>
              </a:rPr>
              <a:t>тап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5"/>
          <p:cNvSpPr/>
          <p:nvPr/>
        </p:nvSpPr>
        <p:spPr>
          <a:xfrm>
            <a:off x="539640" y="189000"/>
            <a:ext cx="7848720" cy="1152360"/>
          </a:xfrm>
          <a:custGeom>
            <a:avLst/>
            <a:gdLst>
              <a:gd name="textAreaLeft" fmla="*/ 0 w 7848720"/>
              <a:gd name="textAreaRight" fmla="*/ 7849080 w 7848720"/>
              <a:gd name="textAreaTop" fmla="*/ 149400 h 1152360"/>
              <a:gd name="textAreaBottom" fmla="*/ 10029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3300"/>
                </a:solidFill>
                <a:latin typeface="Arial"/>
              </a:rPr>
              <a:t>Жасуша теориясының қалыптасу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0" y="1773360"/>
            <a:ext cx="5580000" cy="2447640"/>
          </a:xfrm>
          <a:prstGeom prst="cloudCallout">
            <a:avLst>
              <a:gd name="adj1" fmla="val -39560"/>
              <a:gd name="adj2" fmla="val -680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Ботаник М.Шлейден зоолог Т.Шванн  өсімдік пен жануар жасушасын салыстырып,олардың ұқсастықтарын  тап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250920" y="4941720"/>
            <a:ext cx="4066920" cy="165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әтижесінде жасуш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теорияс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99"/>
                </a:solidFill>
                <a:latin typeface="Arial"/>
              </a:rPr>
              <a:t>негізін қа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4500720" y="3068640"/>
            <a:ext cx="4643280" cy="2881440"/>
          </a:xfrm>
          <a:prstGeom prst="cloudCallout">
            <a:avLst>
              <a:gd name="adj1" fmla="val -55574"/>
              <a:gd name="adj2" fmla="val 57106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1858 ж Р. Вирхов “әрбір жасуша өзіндей жасушаның бөлінуі арқылы пайда болады” деген қорытынды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Times New Roman"/>
              </a:rPr>
              <a:t>келд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cc3300"/>
                </a:solidFill>
                <a:latin typeface="Times New Roman"/>
              </a:rPr>
              <a:t>Жасуша теориясының қағидала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1.Жасуша –барлық тірі ағзалардың ең кіші өлшем бірлігі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2.Әр түрлі ағзалардың жасушалары құрылысы ,құрылымы, химиялық құрамы зат алмасуы негізгі тіршілік  әрекеті жөнінен ұқс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3.Ағзалардың жасуша құрылыстарының  ұқсас болуы -өсімдік пен жануарлардың шығу тегінің бар екенін дәлелі болып табыл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4.Жасушалар бөліну арқылы көбей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5. Жасушаның негізгі құрылымдық  бөлігіне цитоплазма  және жасуша мембранасы  жа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333399"/>
                </a:solidFill>
                <a:latin typeface="Arial"/>
              </a:rPr>
              <a:t>6. Көп жасушалы ағзалардың жасушаларының ең негізгі бөлігі –ядро,тұқым қуалау аппараты сақталып келесіұрпақтарға беріліп о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547640" y="189000"/>
            <a:ext cx="684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3300"/>
                </a:solidFill>
                <a:latin typeface="Arial"/>
              </a:rPr>
              <a:t>Тірі ағзалар жасушалары жетілуіне байланы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0" y="1197000"/>
            <a:ext cx="360036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Про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сыз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5076720" y="1197000"/>
            <a:ext cx="4067280" cy="10080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Эукариотт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333399"/>
                </a:solidFill>
                <a:latin typeface="Arial"/>
              </a:rPr>
              <a:t>ядролы жасуша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067280" y="3213000"/>
            <a:ext cx="4608360" cy="2160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333399"/>
                </a:solidFill>
                <a:latin typeface="Arial"/>
              </a:rPr>
              <a:t>Жасушаны зерттеу әдісі. Бұл мироскоп құралы болып табыла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106-1-n_tif0"/>
          <p:cNvPicPr/>
          <p:nvPr/>
        </p:nvPicPr>
        <p:blipFill>
          <a:blip r:embed="rId1"/>
          <a:stretch/>
        </p:blipFill>
        <p:spPr>
          <a:xfrm>
            <a:off x="395280" y="2276640"/>
            <a:ext cx="3456000" cy="4581360"/>
          </a:xfrm>
          <a:prstGeom prst="rect">
            <a:avLst/>
          </a:prstGeom>
          <a:ln w="0">
            <a:noFill/>
          </a:ln>
        </p:spPr>
      </p:pic>
      <p:sp>
        <p:nvSpPr>
          <p:cNvPr id="77" name="Line 10"/>
          <p:cNvSpPr/>
          <p:nvPr/>
        </p:nvSpPr>
        <p:spPr>
          <a:xfrm flipH="1">
            <a:off x="3276360" y="907920"/>
            <a:ext cx="1150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>
            <a:off x="4427640" y="907920"/>
            <a:ext cx="8650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cc3300"/>
                </a:solidFill>
                <a:latin typeface="Arial"/>
              </a:rPr>
              <a:t>Кестені толтырыңдар</a:t>
            </a: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060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ерттеуші ғалымда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Мерзім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Жасуша теориясын  жасаудағы еңбектер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7:04:46Z</dcterms:created>
  <dc:creator>Жанат Муратбаева</dc:creator>
  <dc:description/>
  <dc:language>en-US</dc:language>
  <cp:lastModifiedBy>Majitov Nurken</cp:lastModifiedBy>
  <dcterms:modified xsi:type="dcterms:W3CDTF">2011-11-30T10:05:28Z</dcterms:modified>
  <cp:revision>1</cp:revision>
  <dc:subject/>
  <dc:title>Жасушаның зерттелу тарихы, жасуша теориясы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20000000000010250500207f7000400038000</vt:lpwstr>
  </property>
</Properties>
</file>